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074-B3E7-46E5-82E1-3C1A645A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DB0-73A1-4212-8B3D-5B094C9B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1DA27-F666-4E4D-8215-B4F3917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BC18F-612C-49B3-8B95-93B76E85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2D199-6D50-4CD7-9925-49CE2C3A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BCC07-00C0-4137-84B2-5A77916F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D54C3-42EB-4F53-82C9-78EEFA3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6088B-E7A6-44B2-B574-34F22B1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AE98F0-159D-489D-9470-F1B0BFE7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029B4-716B-4310-9DBA-928C3B19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A4A00-FD76-4C13-A990-9BAB194F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A324C-15DE-4E4B-8B14-BCA51EC1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7CD-45B1-4379-B650-B1D10B567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E8B52-7BBA-4ADA-8E23-71398D84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2FC37-B2C4-47B7-ACDD-93581132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A6BC5-3D74-4A3B-BB26-C7DE442B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34EC5-296F-4E49-96DB-070C0127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CEF27-0013-40E2-B288-D8344ECD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D5A42-FC93-435A-B6E0-42688B3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8FA46-62D1-4540-ACFC-BB66A55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A3265-AAF6-41FC-B3E4-47A56DCA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71EDF-2A17-4161-A20D-88553FF0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1C9F2-F3E5-4229-8CC3-EB1F4EF6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ABB-76C7-45D4-A077-3B09BF00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BE28B-F237-461D-B37A-EA18B95C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E9BE3-F19A-4A78-895D-CBD06299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5D067-1776-4734-A871-B39738B6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DFC31-FA53-43D3-BD69-9265A7D2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E0BA3-A078-426D-9EF4-83ABB456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26234-9D47-4648-B83C-3E85C796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691A5-BC2E-4E8C-A8AF-4A61EBF5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78724-74AC-44D8-BCC6-1B9A390C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D9B71-E0E0-4387-8DEF-A4C1253C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4D910-A382-4E42-B22B-68A371FE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32E1-E099-4632-BB34-8FEAFF70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57965-67C2-4C74-BD5D-8CCAE5B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16947-A6D5-4C45-9BAB-24F1FE10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96C86-BFA0-4826-B45C-1B47B610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EE41F-BB3B-4B38-9C27-2DB0F188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5C4AA-2D5B-418F-BAF1-1CBC653D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7923D-8931-4D42-BB86-15C31162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31C92-6385-49B1-A952-93FDCB0C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A9E02-DAB2-4083-BD0E-8FD57BC7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0CBE7-00B8-45E6-8E07-222A7D4B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5CEFC-7B01-45EE-841A-B3653D9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3F19-4356-40AD-AA6C-8B7492DA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AFA70-E20C-4F3C-807F-C631149A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1965F-A1F8-4F90-85B6-9DCA1C79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BA5AA-DE51-45D9-88C1-CB0FD70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49106-DF75-4767-8FFE-60541CE6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517B6-A380-4116-9823-D742D583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A31A-C0A9-4B8D-B98F-ED1EE5E2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C55B-0D4E-44F8-89F2-5CD1F46E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E228-FE64-4A72-942C-95BA84E6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66A6-BBC3-4062-82B8-5E6FFC7D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5886-F4AF-40D8-BF81-6A19FF49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D9C-3117-422C-AC2E-E5D58AAA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D72A-3A69-45ED-9572-66FE468C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A382-BE72-465C-91F8-C5B40DD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8254-AF25-432C-B588-21834CEA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ED8F-7906-48E8-BE7F-5AE64312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3B11-C89D-4FBD-95E2-AC36844F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8E4F1-AE23-4AA6-B4EB-A12AB639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74E45-D93A-4270-A599-D57D6324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9FD5-68EC-4795-ACF4-4FF4FAAB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69A97-3130-49FA-81B9-60F10EFB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35EE-0EF1-4B74-B8C2-ACABF673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447-0376-4441-B3C4-4B9AA742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C7F0-7711-439B-88A9-FF60625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A31F8-9489-4DD8-8D07-C7F251D6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F08D-7BC7-4AC2-A490-6509C0A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FFE7-5253-437D-BFE5-8270D8C5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DFB6-5402-467F-9C05-166DFE97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5D53F-DF2E-414F-A099-4E1CEF54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F69C-5812-41B5-B0F0-3CDDF35E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3CBBD-4865-4F46-9AAC-25129736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AFB5C-4F2B-4C65-8CBD-60414442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B83EE-FEAA-4886-95A5-CF73EDD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597-6D72-47FA-ADA2-FABDECA5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2DD3-460D-4226-A643-B0372B29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7184-A6D5-4A07-8D1D-EABEBCC7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10912-370D-44FF-9C73-4228A553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357C3-2FDA-41E4-A1B3-EE13B640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C1FC-1DC9-448C-8056-46067EC0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D9BEE-D6FD-4522-8F31-709C640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CCE60-DFC4-48A4-95F9-EDE0D454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A4294-502E-4821-A6BA-3C28FFEF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09ECD-1156-46FF-91FD-99AE58A9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1E3D4-4B81-4AF6-BAF2-1BEAF75A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DE40-A5C0-460F-A522-099ABFB8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6B454-E49C-41B4-A8E0-4B97BB62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BD2A0-62E6-4F0A-8EC5-0C88388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5F2BC-27F6-4253-8456-522549A5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54D70-0897-40A0-A6E7-824CF620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30B3E-B9BB-4A25-8006-83308E82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36F82-0F0D-40B9-94B6-0F10B64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E05C0-7337-4263-AF08-BDD90CDE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AB21-9E36-41C4-840D-EC929D36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9BB90-9CF1-4A89-A349-6EFC8B26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63AD4-1527-434C-84E5-A6C4B6C1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010-E4A9-4EDA-AC95-37C5B186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4F59-399E-40DF-A960-1CAFCD93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1B11-0300-4DEB-B1CF-0E523E3B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6F436-D599-4BB0-900B-BBE610AD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B922F-AA8A-406B-935C-7FD9F9D6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3101A-9EFC-446B-AA9D-C20CC26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E12B6-725C-4E19-A699-2541EB4F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2698-215A-4553-9BA5-8796047E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D094-61EA-466F-AF42-8EDECF15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AD414-A22F-46B9-9623-3EC2E19A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47E25-8E88-4302-9DE2-7E552604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A42-1C68-42A1-8EC8-E259E0FB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0F7F3-1E76-4831-BEAF-86A1DD15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F1380-80B2-49BF-9AAE-C28C8D2C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60D1F-59E7-456F-93D3-84E4AAE6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D71D0-4118-4992-8ECD-2CDD224D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20E7A-D59E-4E61-B535-6B9FBD2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FEBD8-3A6C-43EA-9135-A9DD5EA2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562F6-0775-44EF-B742-18FA04E9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9B8F2-4315-4658-BEBC-80D5924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3EE6-CF47-4C4F-88A9-E9AABE26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BCC0-6CA7-41EE-AEC7-C4B0AEEF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C3C-05D3-4775-B073-7725D99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E4558-3294-4D7A-B6FE-913A8E2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A31FA-CA9D-448E-9D54-EBF1E2E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DF056-0179-442B-AC13-5C8BB086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9DCAB-26CD-4778-A83F-A48F9C7B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2CDA7-139D-45D1-9543-64A820CC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C4CC-72FE-4C2E-95ED-595D1A60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53520-8062-456D-A5F6-6B03C43B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EFEC8-7375-4D51-B88A-E3D41B98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97A56-8EAD-438C-B939-B2A0A801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E2A61-D9CA-4DE2-A8D2-16F16435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E459-E12E-4AC1-9CED-B11C72D6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C2D7C-58AC-41B4-B106-0CF068F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97EB4-211D-4BC8-8E72-C4263BD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D6BE9-4CC2-4CE7-94E1-BF2B2408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9B188-0B4C-4360-9083-98B2005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244E-DE2E-44D0-BA38-F47F84DC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4162D-C391-44FD-A4BE-C1794B09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D381A-020F-49F7-BE28-B90370C8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E9E1B-95CC-4717-AA8C-AE5B7DC9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1693F-D6C0-48B8-9923-82A372A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E0F33-0368-4746-A137-D8F2C171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705-798F-4ABD-8449-7C3230C7FCD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C1EF-341E-453F-BD70-3BA1BC20B2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4543-0042-4BC4-83CC-C21F9A75BF6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6CA5-E41E-4602-86F7-FCF6B23EAF5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08AC-9FC0-4A8D-9E76-19D6B1815CC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B75A-B29E-4F02-B356-8904CBF7477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F304-308C-45E5-B97F-E0048CF2DB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858-42FC-42FA-AD1C-346BC6F8C28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979-A040-4B70-88D7-B534F6413AB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A56B-F9BA-4462-B8F1-1B50771081D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3CD6-027F-4C11-99C9-EFFAA05B972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336" name="Slika 7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D46C-1AB3-437F-B307-6C547151C88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  <a:ea typeface="Arial"/>
              </a:rPr>
              <a:t>Snag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Arial"/>
                <a:ea typeface="Arial"/>
              </a:rPr>
              <a:t>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O čemu ovisi snaga?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306000" y="1752480"/>
            <a:ext cx="84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nag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e veća ako je vrijeme u kojem se isti rad obavi krać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502200" y="342900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f6228"/>
                </a:solidFill>
                <a:latin typeface="Arial"/>
                <a:ea typeface="Arial"/>
              </a:rPr>
              <a:t>Vrijeme  (</a:t>
            </a:r>
            <a:r>
              <a:rPr b="0" i="1" lang="hr-HR" sz="2400" spc="-1" strike="noStrike">
                <a:solidFill>
                  <a:srgbClr val="4f6228"/>
                </a:solidFill>
                <a:latin typeface="Arial"/>
                <a:ea typeface="Arial"/>
              </a:rPr>
              <a:t>t</a:t>
            </a:r>
            <a:r>
              <a:rPr b="0" lang="hr-HR" sz="2400" spc="-1" strike="noStrike">
                <a:solidFill>
                  <a:srgbClr val="4f6228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fi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ln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velič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vrijeme mjerimo zapornim s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- mjerna jedinica sekunda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rcRect l="8028" t="0" r="0" b="0"/>
          <a:stretch/>
        </p:blipFill>
        <p:spPr>
          <a:xfrm>
            <a:off x="6215040" y="2571840"/>
            <a:ext cx="245736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4"/>
          <p:cNvSpPr/>
          <p:nvPr/>
        </p:nvSpPr>
        <p:spPr>
          <a:xfrm>
            <a:off x="380880" y="144792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je snag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a je veza između rada i sn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ko možemo usporediti snagu dvaju sportaš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2895480" cy="4078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32576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6"/>
          <p:cNvSpPr/>
          <p:nvPr/>
        </p:nvSpPr>
        <p:spPr>
          <a:xfrm>
            <a:off x="304920" y="11430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ako možemo usporedi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n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učenika ko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avljaju jednaki rad pri penjanju uz už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24004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1179360" y="1000080"/>
            <a:ext cx="6835680" cy="137340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nag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je količnik rada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i vremena </a:t>
            </a:r>
            <a:r>
              <a:rPr b="0" i="1" lang="hr-HR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tije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kojega se rad oba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3216240" y="2819520"/>
                <a:ext cx="26193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nag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rije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3809880" y="4495680"/>
                <a:ext cx="14814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Arial"/>
                <a:ea typeface="Arial"/>
              </a:rPr>
              <a:t>Mjerna j</a:t>
            </a:r>
            <a:r>
              <a:rPr b="0" lang="hr-HR" sz="3200" spc="-1" strike="noStrike">
                <a:solidFill>
                  <a:srgbClr val="4f6228"/>
                </a:solidFill>
                <a:latin typeface="Arial"/>
                <a:ea typeface="Arial"/>
              </a:rPr>
              <a:t>edinica za sna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1143000" y="178596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3429000" y="1752480"/>
                <a:ext cx="2157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žu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kun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1" name="TextBox 5"/>
          <p:cNvSpPr/>
          <p:nvPr/>
        </p:nvSpPr>
        <p:spPr>
          <a:xfrm>
            <a:off x="687960" y="3429000"/>
            <a:ext cx="49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za snagu zove 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at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Object 4"/>
              <p:cNvSpPr txBox="1"/>
              <p:nvPr/>
            </p:nvSpPr>
            <p:spPr>
              <a:xfrm>
                <a:off x="6248520" y="1752480"/>
                <a:ext cx="1047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3" name="TextBox 5"/>
          <p:cNvSpPr/>
          <p:nvPr/>
        </p:nvSpPr>
        <p:spPr>
          <a:xfrm>
            <a:off x="574920" y="5105520"/>
            <a:ext cx="8037000" cy="119124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jelo ili stroj ima snagu od jednog vata ako rad od jedn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žula obavi za jednu sekun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5" descr=""/>
          <p:cNvPicPr/>
          <p:nvPr/>
        </p:nvPicPr>
        <p:blipFill>
          <a:blip r:embed="rId1"/>
          <a:stretch/>
        </p:blipFill>
        <p:spPr>
          <a:xfrm>
            <a:off x="6095880" y="3962520"/>
            <a:ext cx="2544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2"/>
          <p:cNvSpPr/>
          <p:nvPr/>
        </p:nvSpPr>
        <p:spPr>
          <a:xfrm>
            <a:off x="343080" y="1523880"/>
            <a:ext cx="7611840" cy="5965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lika je snaga motora koji tijekom 3 s obavi rad od 120 kJ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1219320" y="2514600"/>
            <a:ext cx="44193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20 kJ = 120 000 J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3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 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20 000 J / 3 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0 000 W = 40 k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Slika 1" descr=""/>
          <p:cNvPicPr/>
          <p:nvPr/>
        </p:nvPicPr>
        <p:blipFill>
          <a:blip r:embed="rId1"/>
          <a:stretch/>
        </p:blipFill>
        <p:spPr>
          <a:xfrm>
            <a:off x="277920" y="1049400"/>
            <a:ext cx="101592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3"/>
          <p:cNvSpPr/>
          <p:nvPr/>
        </p:nvSpPr>
        <p:spPr>
          <a:xfrm>
            <a:off x="271800" y="1676520"/>
            <a:ext cx="83160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je snag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 čemu ovisi snaga nekog tijel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snovna mjerna jedinica za snag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m slovom označujemo snagu kao fizikalnu velič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ko uspoređujemo snage dvaju atletičara na utrci od 100 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Slika 1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273528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1:32Z</dcterms:created>
  <dc:creator>Slavko</dc:creator>
  <dc:description/>
  <dc:language>en-US</dc:language>
  <cp:lastModifiedBy>Tomislav Dumančić</cp:lastModifiedBy>
  <dcterms:modified xsi:type="dcterms:W3CDTF">2019-09-17T08:57:36Z</dcterms:modified>
  <cp:revision>25</cp:revision>
  <dc:subject/>
  <dc:title>Slide 1</dc:title>
</cp:coreProperties>
</file>